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66D-6B75-431E-B945-EF072E5F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D37-09D0-4DA0-8BE9-EC879194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853-B3EF-4627-B052-72D139B0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B010-67DF-4638-8D48-7750B6FF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3E2-62DC-431F-95C8-2C1C2EBA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DAB-FCA6-4159-AC91-BEF2D8E6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6F1-30EC-47FF-B861-7B071324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F3D-2EF0-4555-A41D-A3454B71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8AB-DA0D-48BE-8CF2-B445C4A8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082-08C7-4D98-B4C5-DFFE8CED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417-211A-4FC5-B014-E4683780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EEC-DE22-407D-854F-0C3AADD7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4211-23C1-47AA-909D-D0A12AA1B1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recursos.fgsr.es/juegos/totem/" TargetMode="External"/><Relationship Id="rId4" Type="http://schemas.openxmlformats.org/officeDocument/2006/relationships/hyperlink" Target="http://recursos.fgsr.es/juegos/totem2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odas.educarchile.cl/objetos_digitales/odas_sociedad/grandes_civilizaciones_prehispanicas/odea5_2_E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6877798697_1f30060b9d_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5003640" y="260280"/>
            <a:ext cx="414036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MPIEZA 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¡¡A JUGA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Reloj"/>
          <p:cNvPicPr/>
          <p:nvPr/>
        </p:nvPicPr>
        <p:blipFill>
          <a:blip r:embed="rId2"/>
          <a:stretch/>
        </p:blipFill>
        <p:spPr>
          <a:xfrm>
            <a:off x="5724360" y="2349360"/>
            <a:ext cx="1008360" cy="1008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7020000" y="2708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psiqueviva.com/wp-content/uploads/2013/06/Creatividad_Proceso.png"/>
          <p:cNvPicPr/>
          <p:nvPr/>
        </p:nvPicPr>
        <p:blipFill>
          <a:blip r:embed="rId1"/>
          <a:stretch/>
        </p:blipFill>
        <p:spPr>
          <a:xfrm>
            <a:off x="5580000" y="1557360"/>
            <a:ext cx="2998800" cy="3284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468360" y="1197000"/>
            <a:ext cx="468000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Arial"/>
              </a:rPr>
              <a:t>Proces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 orden los grupos, de uno en uno, saldrán a la pizarra digital para responder a la pregunta que le ha correspondido. Si no acierta será el siguiente grupo el que responda a la pregu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Y la evalu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3"/>
          <p:cNvSpPr/>
          <p:nvPr/>
        </p:nvSpPr>
        <p:spPr>
          <a:xfrm>
            <a:off x="1908000" y="1341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68360" y="206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profesora irá anotando las respuestas positivas y negativas de cada grupo que tendrá en cuenta a la hora de evalu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1262765-evaluacia-n-de-la-encuesta-de-calidad"/>
          <p:cNvPicPr/>
          <p:nvPr/>
        </p:nvPicPr>
        <p:blipFill>
          <a:blip r:embed="rId1"/>
          <a:stretch/>
        </p:blipFill>
        <p:spPr>
          <a:xfrm>
            <a:off x="3924360" y="3284640"/>
            <a:ext cx="4714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totem-canada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stanley-park-totem-poles-vancouver-cdn1273"/>
          <p:cNvPicPr/>
          <p:nvPr/>
        </p:nvPicPr>
        <p:blipFill>
          <a:blip r:embed="rId2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87280" y="5013000"/>
            <a:ext cx="3600360" cy="168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Juego del To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ª p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2ª p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560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763640" y="6021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9:47:45Z</dcterms:created>
  <dc:creator>IR015252AG</dc:creator>
  <dc:description/>
  <dc:language>en-US</dc:language>
  <cp:lastModifiedBy>IR015252AG</cp:lastModifiedBy>
  <dcterms:modified xsi:type="dcterms:W3CDTF">2014-03-06T09:48:00Z</dcterms:modified>
  <cp:revision>1</cp:revision>
  <dc:subject/>
  <dc:title>Diapositiva 1</dc:title>
</cp:coreProperties>
</file>